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phosphat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7280" y="549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phosphat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8" idx="3"/>
            <a:endCxn id="101" idx="1"/>
          </p:cNvCxnSpPr>
          <p:nvPr/>
        </p:nvCxnSpPr>
        <p:spPr>
          <a:xfrm flipV="1">
            <a:off x="3313080" y="2729520"/>
            <a:ext cx="2699280" cy="135288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98" idx="3"/>
            <a:endCxn id="103" idx="1"/>
          </p:cNvCxnSpPr>
          <p:nvPr/>
        </p:nvCxnSpPr>
        <p:spPr>
          <a:xfrm flipV="1">
            <a:off x="3313080" y="4080600"/>
            <a:ext cx="2699280" cy="18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Translok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98" idx="3"/>
            <a:endCxn id="104" idx="1"/>
          </p:cNvCxnSpPr>
          <p:nvPr/>
        </p:nvCxnSpPr>
        <p:spPr>
          <a:xfrm>
            <a:off x="3313080" y="4082040"/>
            <a:ext cx="2699280" cy="13482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Zufuhr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usscheidung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8" idx="3"/>
            <a:endCxn id="109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sscheidung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5480" y="549360"/>
            <a:ext cx="41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phosphat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Ausscheidung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athorm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13" idx="3"/>
            <a:endCxn id="114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athorm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yper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arathyreoidism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4480" y="549360"/>
            <a:ext cx="74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ypophosphat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Ausscheidung ↑ &gt; Einfluss von Parathorm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ufuhr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6280" y="549360"/>
            <a:ext cx="34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ypophosphat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Zufuhr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7" idx="3"/>
            <a:endCxn id="12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abe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hosphatbinden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Medikament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chronische Enteriti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anslok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6640" y="549360"/>
            <a:ext cx="40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ypophosphat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Translok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22" idx="3"/>
            <a:endCxn id="12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abe von Insul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v. a. bei Therapie ei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diabetischen Ketoazidose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Refeeding-Syndrom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3800" y="6396840"/>
            <a:ext cx="16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. a. = vor allem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6T16:57:41Z</dcterms:modified>
  <cp:revision>328</cp:revision>
  <dc:subject/>
  <dc:title>Vorstellung einer Neuheit</dc:title>
</cp:coreProperties>
</file>